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FD0F-A949-46F4-A828-5C1650EF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9C6-29BA-42B6-82FB-0339D5A3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6C5-AB93-4D7A-8FB7-6A6B7AFA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639-5BD7-4183-8B3C-C54AAE22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21A-19BC-49CD-8D5F-0774F360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0641-22EC-4AB9-B136-B5265D12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458B-B5C9-4A3A-9D79-A6E6CAE5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FF71-D4AE-42BC-8001-80907C16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EA53-2140-48D4-B407-FADC34B4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86A-0A88-42AA-ABE6-32D8FD46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E1A2-001A-4397-A66F-EF90BEF1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C80F-ABA1-46D5-A42D-A382B709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CFFE-77F1-4FFD-8A31-EECF557610A1}" type="slidenum">
              <a:rPr b="0" lang="nb-N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sentence 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fragme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sentence 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fragme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1320" y="2491560"/>
            <a:ext cx="391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y only want money.</a:t>
            </a: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05:15:44Z</dcterms:created>
  <dc:creator>Lisa</dc:creator>
  <dc:description/>
  <dc:language>en-US</dc:language>
  <cp:lastModifiedBy>Lisa</cp:lastModifiedBy>
  <dcterms:modified xsi:type="dcterms:W3CDTF">2008-05-27T05:34:19Z</dcterms:modified>
  <cp:revision>2</cp:revision>
  <dc:subject/>
  <dc:title>Lysbilde 1</dc:title>
</cp:coreProperties>
</file>